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46597"/>
        <c:axId val="98184245"/>
      </c:barChart>
      <c:catAx>
        <c:axId val="262465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84245"/>
        <c:crosses val="autoZero"/>
        <c:auto val="1"/>
        <c:lblAlgn val="ctr"/>
        <c:lblOffset val="100"/>
        <c:noMultiLvlLbl val="0"/>
      </c:catAx>
      <c:valAx>
        <c:axId val="981842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465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727D-3EA7-4C62-88BE-D220386B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87C2-CD96-4092-871A-BEFF8A12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D268-5365-4C1E-89DA-83A2BF55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BB4E-46F6-494F-9679-EDE27E43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BE98-780E-4521-9BA4-DF447CF9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C661-91A9-4EFE-A593-7B8210BF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F98-CDD0-478E-A516-1AB48716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717-D479-47CD-B210-C74AFEE7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A05E-4E1B-4172-9DC1-768290E0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C15D-D467-4D24-AC0C-5D7F6D07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27E7-9B8A-4E7B-9D11-B3AF7320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50C6-5B29-459B-828E-BFBB8DEA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74B28-F623-40D9-B232-4B39AFC796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