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7575"/>
        <c:axId val="44520467"/>
      </c:barChart>
      <c:catAx>
        <c:axId val="97097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20467"/>
        <c:crosses val="autoZero"/>
        <c:auto val="1"/>
        <c:lblAlgn val="ctr"/>
        <c:lblOffset val="100"/>
        <c:noMultiLvlLbl val="0"/>
      </c:catAx>
      <c:valAx>
        <c:axId val="44520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7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AE9-4B78-486C-9E4F-7DEB5AF0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028-C16A-4415-BCD9-7213B97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48E-0668-4B04-90F9-775A6C3F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CBF-402B-4362-820B-73D892C9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F32-8D62-4000-8FBD-5EBE8A90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7C4-0955-41D8-B826-38CD567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EE3-8280-4ADF-991E-3026EC6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07D-54E7-4CAF-9BCD-C8716AA2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311-44E7-49E1-985A-89ACF4B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640-A17F-407D-A528-0200372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3F4-078A-4290-A216-2ED45D3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B7D-AE60-4909-BAA6-2FB3C3D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2DDB-DB8A-41F3-ACE7-54C3E02DF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