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67104"/>
        <c:axId val="29140956"/>
      </c:barChart>
      <c:catAx>
        <c:axId val="40867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40956"/>
        <c:crosses val="autoZero"/>
        <c:auto val="1"/>
        <c:lblAlgn val="ctr"/>
        <c:lblOffset val="100"/>
        <c:noMultiLvlLbl val="0"/>
      </c:catAx>
      <c:valAx>
        <c:axId val="29140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67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944-BF6B-48A8-9719-8E9DD532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063-6EF9-43A9-92EB-02B876DD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A5D4-99A2-423D-A54E-8DF20556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A51-89F0-4F46-A537-284CC5EF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4B6-BEF0-4173-9192-64CE5C47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1750-A63E-4C9E-8D7E-C4AE4C9C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0F8-D2E6-4DC5-B780-DFE4EDDC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65F-C9FC-4C45-81EF-2AAC74CC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AEA-E4BF-4F57-87DF-DACA3AE6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15C-5A3F-467C-B7C8-1A27C23B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182-7D7B-4193-B751-5F21AD10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B07-53E4-4127-9FCC-32136674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081D6-72AA-4983-A827-75F55EEED3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